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3A7-D87E-4221-B000-C8347C24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7BC-1BC6-42DC-B0EB-CF2197A8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69E-AF91-4D73-BBF7-AE6E45AE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EDA-1161-45D4-B2F7-C934FDD2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1670-C989-49F7-9E23-3ACE2E4C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6A54-612C-45AF-B2D5-EBFD062B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86FE-B399-4189-9679-73B9840A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169E-B970-4522-BE4B-67A4E17A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D736-80B3-4FEF-B7C0-D8EE3FBB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FEBE-B240-404B-9E8B-B1FD9706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482F-A074-483F-88BB-70385FB4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693-D9CA-4E3E-903D-08AE40C5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2AE5-87FC-41B3-A24E-05034F6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342-C56D-4EF8-8F90-0EE863E0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010D-F7BE-4395-8A12-F43E20C3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694F-883A-4202-9282-497BF63D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A006-AA85-4358-AB16-7B157AC5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666-51C6-4BA5-B826-D1D75B94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1A8-CC57-4C2A-8BD0-3BE8CA86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B6C-1E7C-455C-801F-D4B66472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9A0-DECA-4779-AFE6-C1E87304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50B-C212-4B35-AB7E-B9CADF1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9FE-6308-44CA-88B0-072AB3B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9B2-96E5-4E09-A8B5-BE52DFDC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D441-CD88-49D9-B581-110436C0BD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9396-99EC-49FB-8BF8-CADBB21447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20000"/>
                </a:solidFill>
                <a:latin typeface="Tahoma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723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АИЗМЕНИ</a:t>
            </a:r>
            <a:r>
              <a:rPr b="1" lang="sr-Latn-CS" sz="4000" spc="-1" strike="noStrike">
                <a:solidFill>
                  <a:srgbClr val="720000"/>
                </a:solidFill>
                <a:latin typeface="Tahoma"/>
              </a:rPr>
              <a:t>Ч</a:t>
            </a: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Е СТРУЈ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изиоло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фекат IF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31640" y="1482840"/>
            <a:ext cx="5761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а и експериментална испитивања многих аутора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iedl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1960) показала су д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 постојаном фреквенцијом 9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ју аналгетички и симпатиколитички ефек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тмична учесталост од 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азива активну хиперемију и убрзава метаболичке процесе као и елиминацију токсичних продуката. В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лататорни ефекат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казан је капилароскопијом, мерењем кожних температура, осцилографијом, хистохемијским и лабораторијским истраживањим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ikilov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972) указује да се путем електромиографије може доказати стимулативно деловањ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регенерацију повр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них нерава и мишић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95280" y="2490840"/>
            <a:ext cx="265572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нусоидне модулисане струје (руска стимулација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4000" y="2101320"/>
            <a:ext cx="3322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нусоидне модулисане струје у терапију је увео руски лекар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Jasnogords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1969. године. Синусоидне струје имају фреквенцију од 50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Терапијски ефекат се постиже кроз модулацију синусоидног облика са фреквенцијом од 10-15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9640" y="2184480"/>
            <a:ext cx="4681800" cy="2678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39640" y="5084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дулисање синусоидне стру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- дубина модулације 10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- дубина модулације 5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- континуирани 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Т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ЛЕКТРИЦИТЕТ (франклинизација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ојмом "франклинизација" подразумева се примена статичког електрицитета високог напона (до 5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 терапијске сврхе. Изм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две електроде јавља се струја мале јачине, до 0,5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, а наелектрисање јона одговара активној електроди. Обично се користе ефекти негативних активних ј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и ефекат је васодилатација којој претходи краткотрајна васоконстрикција. Вазодилатација условљава локално повишење температуре, а то условљава убрзани метаболиз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ликација може бити општа и локал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сокофреквентне струје (VF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286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сокофреквентне струје су струје са фреквенцијом преко 10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e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Никола Тесла је 1891. године први описао топлотни ефекат под дејство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струја. Следеће 1892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rsonv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је испитивао ефект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ује на човечији организам и утврдио да струја изнад 1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изазива дражење нерава и мишић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egelschmid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1908) примену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а назива "диатерми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19"/>
          <p:cNvGraphicFramePr/>
          <p:nvPr/>
        </p:nvGraphicFramePr>
        <p:xfrm>
          <a:off x="2124000" y="1557360"/>
          <a:ext cx="475164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751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ВФС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McLennan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в у епрувети постављена у пољ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кратких таласа) брже се загрева него епрувета са серумом. Овај експеримент показује да се једна средина брже загрева ако има више честица (веће је трењ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Essay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раствор парафина сипа се мал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2CO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обија емулзија која кључа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нижој температури него на којој кључа вода. Разлози су као и у горњем прим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Kowarschik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вор албумина (беланце) се коагулише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55-57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а у воденом купатилу на 62-64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VF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800" spc="-1" strike="noStrike">
                <a:solidFill>
                  <a:srgbClr val="ffcc66"/>
                </a:solidFill>
                <a:latin typeface="Tahoma"/>
              </a:rPr>
              <a:t>Schliephake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кна хлеба се пресече на три дела и изме|у њих се ставе изолаторске плоче. Тада се на крајевима векне укључи дуготаласна дијатермија и после извесног времена се може констатовати, ако меримо температуру у исеченим деловима, да унутрашњидео векне има 5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спољашњи делови 6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Ако сада исту векну са постављеним изолаторским плочама укључимо у коло краткоталасне дијатермије, онда након извесног времена (10-15 минута) измеримо температуру она ће у свим деловима бити иста: 2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во указује да дуготаласна дијатермија има особину кондуктивне проводне струје, а крактоталасна дијатермија која има већи број електромаг-нетских осцилација, има по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axwell-u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обину струја померања, односно капацитативних струј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дела 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V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576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'Arsonvalizacija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нција 1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b) Дуг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500.000 - 1.0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) крат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кот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р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KTD) 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10-100 MH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) ултрак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раткоталасна д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eнција 434,78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) микр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еквeнција 2.450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3280" y="1628280"/>
            <a:ext cx="4176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медицински апарати за краткоталасну дијатермију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 су одашиљачи подручја кратких таласа. Како могу правити сметње у преносу сигнал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T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аобраћаја, радиоталаса и сл., 1947. године усвојена је м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ародна конвенција о таласној дужини електромедицнских апарата. Према тој класификацији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 таласне дужине од 22,12 метара и 11,06 метара а фреквенцију 13,56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дносно 27,1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8200" y="1600200"/>
            <a:ext cx="4033800" cy="449568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зирањ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а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ема никаквог осећаја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олиго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једва уочљив 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ијата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хипер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јак осећај топлоте, али још увек није непријат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лтракраткоталасна дијатермиј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тракратки таласи настају у генератору са магнетроном. Учесталост се креће од 100-5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У терапијским апаратима фреквенција је 433,9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а дужина 69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меном овог облика постигнут је повољнији ефекат загревања масног и мишићног ткива који износи 4:1, а код К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зрака однос је 9:1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да је у виду рефлектора који може имати различито поље зрачења. Дозирање се врши у (W) а максимална доза је 200 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280" y="4005000"/>
            <a:ext cx="7929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Топлотни ефекат је резултат конверзије електромагнетских таласа у топлоту. Дејство се огледа, углавном, на крвним судовима капиларног реда који се проширују 3-10 пута. Проширење се након зрачења одржава и неколико дана а условљено је не смо топлотним него и симпатиколитичним ефектом услед депресивног деловања ултракратких таласа на симпатикус. Базални метаболизам се повећава (</a:t>
            </a:r>
            <a:r>
              <a:rPr b="0" lang="sr-Latn-CS" sz="2000" spc="-1" strike="noStrike">
                <a:solidFill>
                  <a:srgbClr val="ffcc66"/>
                </a:solidFill>
                <a:latin typeface="Tahoma"/>
              </a:rPr>
              <a:t>Nasset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) као и побољшање имунолошких снага организма (Петровић, 197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 СТРУ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струје карaктер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 промена правца кретањa јона и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тензит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кр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81360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 микроталасима се подразумевају електромагнетск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дијације високе фреквенције и мале таласнедужине. Фреквенција се креће од 2.000-18.0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е дужине 15,0-1,67 cm. У терапијским апаратима се користи фреквенција 2.45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таласна дужина од 12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280" y="4005360"/>
            <a:ext cx="8147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Основно и примарно физичко деловање на организам је стварање ендогене топлоте у озраченом делу тела. Продорност ових зрака је око 5 цм. Из тих разлога се дубље положена ткива не могу третирати овим физичким агенсом. Ниски топлотни коефицијент абсорпције у масном ткиву представља значајан моменат, јер се загревање масног ткива у корелацији са загревањем мишићног ткива доводи у однос 1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дикаци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Трауматологија (не користи се код свежих повреда): повреде меких ткива, стања после прелома костију и то након фазе имобилизациј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еуматологија: запаљењска обољења у хроничном стадијуму, дегенеративна реуматска обољења, ванзглобни реуматиз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Гинекологија: хронична неспецифична гинеколошка обољења - аднекситиси, салнигитиси, параметиртиси и др; аменеореја, стерилитет (примарни и секундарни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РЛ: синуситис, хронични отитис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урологија: неуралгије, неуритиси, спинална обољењ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тале медицинске дисцпилине: КТД се користи код свих хроничних обољења као што су стања после хируршких интервенција са инфилтратима, хроничних кожних обољења, хроничног бронхитиса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паце макер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pace mаkеr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е струје ниске фреквенције (нискофреквентне струј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604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а) фарадска стру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б) транскутана електри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на неурална стимулација (TE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радска стру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364500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еквенција фарадске струје је до 1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Фарадска струја је откривена од стране Фарадаy-а 1831. године, и то преко индукције у секундарном калему индукционог апарата, а као последица наизменичног отварања и затварања струјног кола у примарном калему. Овај облик струје можемо назвати и "класични облик" фарадске струје који се карактерише асиметријом позитивне и негативне фазе једног циклуса као и ирегуларности циклуса. Данас се добија регуларна фарадска струја "неофарадска струја" која има трајање 1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а паузу 2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користи се у дијагностичке свр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556000" y="1352520"/>
            <a:ext cx="403380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хника приме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0755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радска струја у терапијске сврхе се користи као стабилна или лабилна фарадиз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83080" cy="251460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 у терапи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бола корист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пулсе који су правоугли, бифазн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 монoфазни. Фреквенција је од 2-200Hz. Деловање ТЕНС терапије заснива се на принципу дуализма, односно "гате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трол" терапије. Новија истраживањa указу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 значaј ендогеног опијатног и неопијатног с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у постизању анaлгетског ефeкта. Опијатни рецeптори су ми, капa, делта, а супстанце које се ослоб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ју кроз ТЕНС су енкефа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енд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ин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Ове ступстанце имају ефeкат сличан морфијум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на томе се заснива блокирање болних сензација у одр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ној регијi (AA Cheng, Pomeranz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атра се да коришћењe велик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 интензит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изаzива "стрес анaлгезију" (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hang i s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991). Како се анaлгетски ефeкти могу постић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са интензитеtима мањим од 40 мА, али је значaјно применит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адекватну фреквенцију, то је у к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кој пракси овај начин прихватљив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је средње фреквен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2205000"/>
            <a:ext cx="69231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) струје с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ње ф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венциј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- интерф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р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Nemec stru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б) Синусо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о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у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ј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 стимулациј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теферентне Nemec-ove струје (I.F.S.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40338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арат за нискофреквентне струје се састоји из два струјна ко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константне фреквенције 4000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варијабилне фкреквенције 3900-410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0" y="5013360"/>
            <a:ext cx="4033800" cy="1014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572000" y="2063880"/>
            <a:ext cx="33130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katarinaparezanovicilic@gmail.com</cp:lastModifiedBy>
  <dcterms:modified xsi:type="dcterms:W3CDTF">2020-09-26T17:00:29Z</dcterms:modified>
  <cp:revision>12</cp:revision>
  <dc:subject/>
  <dc:title>NAIZMENIČNE STRUJE</dc:title>
</cp:coreProperties>
</file>